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22D9-AD63-44E5-AA58-CFCE39E5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59F-1E29-4608-8EAD-44AB9CD4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B91-B6C0-4B3A-B3B8-94C0E840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7C2-25D1-42F5-8172-EC9F2B53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AF2-1067-4F49-A6F4-CDCEF07D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619-9627-4BA4-AA72-8D297EEE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045-1BC5-4C41-BF0B-E8DC016A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E62-65AD-4027-843D-184B610C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E58-745D-4B2F-A579-ACF275AE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7E0-8034-43D9-8DE5-333DC184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FAC-8F73-4D02-BE35-A23B7EE8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E60-C01B-4B7A-8D03-743DE1C6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06B7-33D9-404F-AF09-70FDC5751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14480" y="3076560"/>
            <a:ext cx="35150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esiunea iunie-iuli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8T11:23:36Z</dcterms:modified>
  <cp:revision>38</cp:revision>
  <dc:subject/>
  <dc:title>SALARIUL</dc:title>
</cp:coreProperties>
</file>